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83400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44360" y="719280"/>
            <a:ext cx="4794120" cy="359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554360"/>
            <a:ext cx="5505480" cy="4314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07280"/>
            <a:ext cx="2982960" cy="479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9107280"/>
            <a:ext cx="2982960" cy="479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FB23-20EB-4D4F-9D0F-9283C62629DF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8680" y="4554360"/>
            <a:ext cx="55054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3897360" y="9107640"/>
            <a:ext cx="29829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397C-951E-47FD-A4BF-415A695BAECF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CBAF-458E-4B18-BDB1-DFBB043C7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B9B3-AEA4-4C44-9A09-B76C8304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0967-7F50-48EC-94BC-4037A9D8C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1546-5F43-45A4-9941-72768157B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8ED9-0F20-46F8-8260-31BB46C2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EF14-3B5C-4A99-A78A-BC6D5F95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1C2B-BB8A-4072-81C4-3F318940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BA64-4BC4-41C3-BBBE-9445E8FD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980A-441C-443B-9354-5E69F598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89A0-39A9-4864-935C-CEFA87E9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CBAE-56FD-407C-AABD-A5429833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08DD-2707-4B3E-BE2E-52D917B4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4E16-B9ED-4315-9FC2-7F3147706D9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feld 4"/>
          <p:cNvSpPr/>
          <p:nvPr/>
        </p:nvSpPr>
        <p:spPr>
          <a:xfrm>
            <a:off x="3795840" y="357120"/>
            <a:ext cx="183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  <a:ea typeface="Arial"/>
              </a:rPr>
              <a:t>Subjek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feld 5"/>
          <p:cNvSpPr/>
          <p:nvPr/>
        </p:nvSpPr>
        <p:spPr>
          <a:xfrm>
            <a:off x="292680" y="1071720"/>
            <a:ext cx="4475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  <a:ea typeface="Arial"/>
              </a:rPr>
              <a:t>Person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und 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  <a:ea typeface="Arial"/>
              </a:rPr>
              <a:t>Di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ergänzen das Verb im Nominati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Ergänzungsfragen: 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  <a:ea typeface="Arial"/>
              </a:rPr>
              <a:t>Wer?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oder 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  <a:ea typeface="Arial"/>
              </a:rPr>
              <a:t>Wa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ispiel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feld 10"/>
          <p:cNvSpPr/>
          <p:nvPr/>
        </p:nvSpPr>
        <p:spPr>
          <a:xfrm>
            <a:off x="294840" y="2500200"/>
            <a:ext cx="297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er Vater wäscht seinen Soh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feld 11"/>
          <p:cNvSpPr/>
          <p:nvPr/>
        </p:nvSpPr>
        <p:spPr>
          <a:xfrm>
            <a:off x="4083480" y="2500200"/>
            <a:ext cx="255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Arial"/>
                <a:ea typeface="Arial"/>
              </a:rPr>
              <a:t>W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wäscht seinen Sohn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feld 12"/>
          <p:cNvSpPr/>
          <p:nvPr/>
        </p:nvSpPr>
        <p:spPr>
          <a:xfrm>
            <a:off x="7431120" y="250020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Arial"/>
                <a:ea typeface="Arial"/>
              </a:rPr>
              <a:t>der Va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feld 13"/>
          <p:cNvSpPr/>
          <p:nvPr/>
        </p:nvSpPr>
        <p:spPr>
          <a:xfrm>
            <a:off x="304200" y="2857680"/>
            <a:ext cx="323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as Boot schwimmt auf dem Se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feld 14"/>
          <p:cNvSpPr/>
          <p:nvPr/>
        </p:nvSpPr>
        <p:spPr>
          <a:xfrm>
            <a:off x="4084560" y="2857680"/>
            <a:ext cx="28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Arial"/>
                <a:ea typeface="Arial"/>
              </a:rPr>
              <a:t>Wa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schwimmt auf dem See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feld 15"/>
          <p:cNvSpPr/>
          <p:nvPr/>
        </p:nvSpPr>
        <p:spPr>
          <a:xfrm>
            <a:off x="7437240" y="2857680"/>
            <a:ext cx="10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Arial"/>
                <a:ea typeface="Arial"/>
              </a:rPr>
              <a:t>das Boo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feld 16"/>
          <p:cNvSpPr/>
          <p:nvPr/>
        </p:nvSpPr>
        <p:spPr>
          <a:xfrm>
            <a:off x="307080" y="3500280"/>
            <a:ext cx="511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kann ein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  <a:ea typeface="Arial"/>
              </a:rPr>
              <a:t>Substanti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oder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  <a:ea typeface="Arial"/>
              </a:rPr>
              <a:t>Pronom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se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ispiel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feld 17"/>
          <p:cNvSpPr/>
          <p:nvPr/>
        </p:nvSpPr>
        <p:spPr>
          <a:xfrm>
            <a:off x="299160" y="4357800"/>
            <a:ext cx="231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Arial"/>
                <a:ea typeface="Arial"/>
              </a:rPr>
              <a:t>Irina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schwimmt im Se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feld 18"/>
          <p:cNvSpPr/>
          <p:nvPr/>
        </p:nvSpPr>
        <p:spPr>
          <a:xfrm>
            <a:off x="2941560" y="4357800"/>
            <a:ext cx="219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Arial"/>
                <a:ea typeface="Arial"/>
              </a:rPr>
              <a:t>Sie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chwimmt im Se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feld 20"/>
          <p:cNvSpPr/>
          <p:nvPr/>
        </p:nvSpPr>
        <p:spPr>
          <a:xfrm>
            <a:off x="291240" y="4714920"/>
            <a:ext cx="19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Arial"/>
                <a:ea typeface="Arial"/>
              </a:rPr>
              <a:t>Der See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st saube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feld 21"/>
          <p:cNvSpPr/>
          <p:nvPr/>
        </p:nvSpPr>
        <p:spPr>
          <a:xfrm>
            <a:off x="2931840" y="4714920"/>
            <a:ext cx="138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Arial"/>
                <a:ea typeface="Arial"/>
              </a:rPr>
              <a:t>Er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st saube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feld 23"/>
          <p:cNvSpPr/>
          <p:nvPr/>
        </p:nvSpPr>
        <p:spPr>
          <a:xfrm>
            <a:off x="303480" y="5357880"/>
            <a:ext cx="492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steht meistens an 1. Position des Satz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feld 1"/>
          <p:cNvSpPr/>
          <p:nvPr/>
        </p:nvSpPr>
        <p:spPr>
          <a:xfrm>
            <a:off x="2945160" y="357120"/>
            <a:ext cx="343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  <a:ea typeface="Arial"/>
              </a:rPr>
              <a:t>Verb (Prädikat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feld 2"/>
          <p:cNvSpPr/>
          <p:nvPr/>
        </p:nvSpPr>
        <p:spPr>
          <a:xfrm>
            <a:off x="292320" y="1071720"/>
            <a:ext cx="8218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  <a:ea typeface="Arial"/>
              </a:rPr>
              <a:t>Handlung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nd 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  <a:ea typeface="Arial"/>
              </a:rPr>
              <a:t>Ereignis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steht meistens aus 1 oder 2 Teilen (abhängig von Art, Zeit und Fal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Ergänzungsfragen: Was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wird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  <a:ea typeface="Arial"/>
              </a:rPr>
              <a:t> gemacht?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oder Was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  <a:ea typeface="Arial"/>
              </a:rPr>
              <a:t> geschieh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ispiel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feld 4"/>
          <p:cNvSpPr/>
          <p:nvPr/>
        </p:nvSpPr>
        <p:spPr>
          <a:xfrm>
            <a:off x="294840" y="2500200"/>
            <a:ext cx="297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er Vater wäscht seinen Soh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feld 5"/>
          <p:cNvSpPr/>
          <p:nvPr/>
        </p:nvSpPr>
        <p:spPr>
          <a:xfrm>
            <a:off x="3647160" y="2500200"/>
            <a:ext cx="224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Was </a:t>
            </a:r>
            <a:r>
              <a:rPr b="1" lang="de-DE" sz="1600" spc="-1" strike="noStrike">
                <a:solidFill>
                  <a:srgbClr val="ff0000"/>
                </a:solidFill>
                <a:latin typeface="Arial"/>
                <a:ea typeface="Arial"/>
              </a:rPr>
              <a:t>mach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der Vater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feld 6"/>
          <p:cNvSpPr/>
          <p:nvPr/>
        </p:nvSpPr>
        <p:spPr>
          <a:xfrm>
            <a:off x="6159240" y="250020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Er</a:t>
            </a:r>
            <a:r>
              <a:rPr b="1" lang="de-DE" sz="1600" spc="-1" strike="noStrike">
                <a:solidFill>
                  <a:srgbClr val="ff0000"/>
                </a:solidFill>
                <a:latin typeface="Arial"/>
                <a:ea typeface="Arial"/>
              </a:rPr>
              <a:t> wäsch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feld 7"/>
          <p:cNvSpPr/>
          <p:nvPr/>
        </p:nvSpPr>
        <p:spPr>
          <a:xfrm>
            <a:off x="304200" y="2857680"/>
            <a:ext cx="323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as Boot schwimmt auf dem Se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feld 8"/>
          <p:cNvSpPr/>
          <p:nvPr/>
        </p:nvSpPr>
        <p:spPr>
          <a:xfrm>
            <a:off x="3652920" y="2857680"/>
            <a:ext cx="22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Was </a:t>
            </a:r>
            <a:r>
              <a:rPr b="1" lang="de-DE" sz="1600" spc="-1" strike="noStrike">
                <a:solidFill>
                  <a:srgbClr val="ff0000"/>
                </a:solidFill>
                <a:latin typeface="Arial"/>
                <a:ea typeface="Arial"/>
              </a:rPr>
              <a:t>macht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as Boot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feld 9"/>
          <p:cNvSpPr/>
          <p:nvPr/>
        </p:nvSpPr>
        <p:spPr>
          <a:xfrm>
            <a:off x="6155640" y="2857680"/>
            <a:ext cx="152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Es </a:t>
            </a:r>
            <a:r>
              <a:rPr b="1" lang="de-DE" sz="1600" spc="-1" strike="noStrike">
                <a:solidFill>
                  <a:srgbClr val="ff0000"/>
                </a:solidFill>
                <a:latin typeface="Arial"/>
                <a:ea typeface="Arial"/>
              </a:rPr>
              <a:t>schwimm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feld 10"/>
          <p:cNvSpPr/>
          <p:nvPr/>
        </p:nvSpPr>
        <p:spPr>
          <a:xfrm>
            <a:off x="298800" y="3500280"/>
            <a:ext cx="499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2-teilige Verben bilden oft 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  <a:ea typeface="Arial"/>
              </a:rPr>
              <a:t>Satzklammer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ispiel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feld 11"/>
          <p:cNvSpPr/>
          <p:nvPr/>
        </p:nvSpPr>
        <p:spPr>
          <a:xfrm>
            <a:off x="293400" y="4357800"/>
            <a:ext cx="13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odalverb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feld 12"/>
          <p:cNvSpPr/>
          <p:nvPr/>
        </p:nvSpPr>
        <p:spPr>
          <a:xfrm>
            <a:off x="2946240" y="4357800"/>
            <a:ext cx="250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Er </a:t>
            </a:r>
            <a:r>
              <a:rPr b="1" lang="de-DE" sz="1600" spc="-1" strike="noStrike">
                <a:solidFill>
                  <a:srgbClr val="ff0000"/>
                </a:solidFill>
                <a:latin typeface="Arial"/>
                <a:ea typeface="Arial"/>
              </a:rPr>
              <a:t>wil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die Seife </a:t>
            </a:r>
            <a:r>
              <a:rPr b="1" lang="de-DE" sz="1600" spc="-1" strike="noStrike">
                <a:solidFill>
                  <a:srgbClr val="ff0000"/>
                </a:solidFill>
                <a:latin typeface="Arial"/>
                <a:ea typeface="Arial"/>
              </a:rPr>
              <a:t>nehm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feld 13"/>
          <p:cNvSpPr/>
          <p:nvPr/>
        </p:nvSpPr>
        <p:spPr>
          <a:xfrm>
            <a:off x="291600" y="4714920"/>
            <a:ext cx="175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trennbare Verb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feld 14"/>
          <p:cNvSpPr/>
          <p:nvPr/>
        </p:nvSpPr>
        <p:spPr>
          <a:xfrm>
            <a:off x="2932920" y="4714920"/>
            <a:ext cx="26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ie </a:t>
            </a:r>
            <a:r>
              <a:rPr b="1" lang="de-DE" sz="1600" spc="-1" strike="noStrike">
                <a:solidFill>
                  <a:srgbClr val="ff0000"/>
                </a:solidFill>
                <a:latin typeface="Arial"/>
                <a:ea typeface="Arial"/>
              </a:rPr>
              <a:t>häng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die Wäsche </a:t>
            </a:r>
            <a:r>
              <a:rPr b="1" lang="de-DE" sz="1600" spc="-1" strike="noStrike">
                <a:solidFill>
                  <a:srgbClr val="ff0000"/>
                </a:solidFill>
                <a:latin typeface="Arial"/>
                <a:ea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feld 15"/>
          <p:cNvSpPr/>
          <p:nvPr/>
        </p:nvSpPr>
        <p:spPr>
          <a:xfrm>
            <a:off x="303480" y="5715000"/>
            <a:ext cx="492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steht meistens auf Position 2 des Satz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feld 16"/>
          <p:cNvSpPr/>
          <p:nvPr/>
        </p:nvSpPr>
        <p:spPr>
          <a:xfrm>
            <a:off x="296640" y="5072040"/>
            <a:ext cx="191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2-teilige Zeitform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feld 17"/>
          <p:cNvSpPr/>
          <p:nvPr/>
        </p:nvSpPr>
        <p:spPr>
          <a:xfrm>
            <a:off x="2951280" y="5072040"/>
            <a:ext cx="365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Wir </a:t>
            </a:r>
            <a:r>
              <a:rPr b="1" lang="de-DE" sz="1600" spc="-1" strike="noStrike">
                <a:solidFill>
                  <a:srgbClr val="ff0000"/>
                </a:solidFill>
                <a:latin typeface="Arial"/>
                <a:ea typeface="Arial"/>
              </a:rPr>
              <a:t>hab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das Handtuch </a:t>
            </a:r>
            <a:r>
              <a:rPr b="1" lang="de-DE" sz="1600" spc="-1" strike="noStrike">
                <a:solidFill>
                  <a:srgbClr val="ff0000"/>
                </a:solidFill>
                <a:latin typeface="Arial"/>
                <a:ea typeface="Arial"/>
              </a:rPr>
              <a:t>gewasch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feld 1"/>
          <p:cNvSpPr/>
          <p:nvPr/>
        </p:nvSpPr>
        <p:spPr>
          <a:xfrm>
            <a:off x="3770640" y="357120"/>
            <a:ext cx="16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  <a:ea typeface="Arial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feld 2"/>
          <p:cNvSpPr/>
          <p:nvPr/>
        </p:nvSpPr>
        <p:spPr>
          <a:xfrm>
            <a:off x="331920" y="1071720"/>
            <a:ext cx="693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weitere Ergänzungen zum Ver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er Fall ist abhängig vom Verb: Dativ- und Akkusativobjek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kkusativobjekt (indirekt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feld 5"/>
          <p:cNvSpPr/>
          <p:nvPr/>
        </p:nvSpPr>
        <p:spPr>
          <a:xfrm>
            <a:off x="3217680" y="3071880"/>
            <a:ext cx="196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Arial"/>
                <a:ea typeface="Arial"/>
              </a:rPr>
              <a:t>We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will er helfen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feld 6"/>
          <p:cNvSpPr/>
          <p:nvPr/>
        </p:nvSpPr>
        <p:spPr>
          <a:xfrm>
            <a:off x="5366520" y="307188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Arial"/>
                <a:ea typeface="Arial"/>
              </a:rPr>
              <a:t>seiner Fra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feld 15"/>
          <p:cNvSpPr/>
          <p:nvPr/>
        </p:nvSpPr>
        <p:spPr>
          <a:xfrm>
            <a:off x="295200" y="2571840"/>
            <a:ext cx="253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ativobjekt (direkt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feld 18"/>
          <p:cNvSpPr/>
          <p:nvPr/>
        </p:nvSpPr>
        <p:spPr>
          <a:xfrm>
            <a:off x="300600" y="2143080"/>
            <a:ext cx="271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Thomas badet seinen Soh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feld 19"/>
          <p:cNvSpPr/>
          <p:nvPr/>
        </p:nvSpPr>
        <p:spPr>
          <a:xfrm>
            <a:off x="3217680" y="2143080"/>
            <a:ext cx="20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Arial"/>
                <a:ea typeface="Arial"/>
              </a:rPr>
              <a:t>W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badet Thoma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feld 20"/>
          <p:cNvSpPr/>
          <p:nvPr/>
        </p:nvSpPr>
        <p:spPr>
          <a:xfrm>
            <a:off x="5367240" y="214308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Arial"/>
                <a:ea typeface="Arial"/>
              </a:rPr>
              <a:t>seinen Soh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feld 21"/>
          <p:cNvSpPr/>
          <p:nvPr/>
        </p:nvSpPr>
        <p:spPr>
          <a:xfrm>
            <a:off x="381960" y="3500280"/>
            <a:ext cx="486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ehrere Objekte in einem Satz möglich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feld 22"/>
          <p:cNvSpPr/>
          <p:nvPr/>
        </p:nvSpPr>
        <p:spPr>
          <a:xfrm>
            <a:off x="310680" y="40006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ann zieht er </a:t>
            </a:r>
            <a:r>
              <a:rPr b="1" i="1" lang="de-DE" sz="1600" spc="-1" strike="noStrike">
                <a:solidFill>
                  <a:srgbClr val="ff0000"/>
                </a:solidFill>
                <a:latin typeface="Arial"/>
                <a:ea typeface="Arial"/>
              </a:rPr>
              <a:t>ihm</a:t>
            </a:r>
            <a:r>
              <a:rPr b="1" lang="de-DE" sz="1600" spc="-1" strike="noStrike">
                <a:solidFill>
                  <a:srgbClr val="ff0000"/>
                </a:solidFill>
                <a:latin typeface="Arial"/>
                <a:ea typeface="Arial"/>
              </a:rPr>
              <a:t> den Schlafanzu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a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feld 24"/>
          <p:cNvSpPr/>
          <p:nvPr/>
        </p:nvSpPr>
        <p:spPr>
          <a:xfrm>
            <a:off x="4664880" y="400068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ff0000"/>
                </a:solidFill>
                <a:latin typeface="Arial"/>
                <a:ea typeface="Arial"/>
              </a:rPr>
              <a:t>Dativobjekt</a:t>
            </a:r>
            <a:r>
              <a:rPr b="0" lang="de-DE" sz="1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und</a:t>
            </a:r>
            <a:r>
              <a:rPr b="0" lang="de-DE" sz="1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de-DE" sz="1600" spc="-1" strike="noStrike">
                <a:solidFill>
                  <a:srgbClr val="ff0000"/>
                </a:solidFill>
                <a:latin typeface="Arial"/>
                <a:ea typeface="Arial"/>
              </a:rPr>
              <a:t>Akkusativobjek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feld 26"/>
          <p:cNvSpPr/>
          <p:nvPr/>
        </p:nvSpPr>
        <p:spPr>
          <a:xfrm>
            <a:off x="294840" y="4500720"/>
            <a:ext cx="21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weitere Objekt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feld 27"/>
          <p:cNvSpPr/>
          <p:nvPr/>
        </p:nvSpPr>
        <p:spPr>
          <a:xfrm>
            <a:off x="293400" y="5000760"/>
            <a:ext cx="290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Tom bringt das Baby </a:t>
            </a:r>
            <a:r>
              <a:rPr b="1" lang="de-DE" sz="1600" spc="-1" strike="noStrike">
                <a:solidFill>
                  <a:srgbClr val="ff0000"/>
                </a:solidFill>
                <a:latin typeface="Arial"/>
                <a:ea typeface="Arial"/>
              </a:rPr>
              <a:t>ins Bet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feld 28"/>
          <p:cNvSpPr/>
          <p:nvPr/>
        </p:nvSpPr>
        <p:spPr>
          <a:xfrm>
            <a:off x="3725280" y="5000760"/>
            <a:ext cx="216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irektional (Akkusativ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feld 33"/>
          <p:cNvSpPr/>
          <p:nvPr/>
        </p:nvSpPr>
        <p:spPr>
          <a:xfrm>
            <a:off x="299160" y="5357880"/>
            <a:ext cx="21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as Baby ist </a:t>
            </a:r>
            <a:r>
              <a:rPr b="1" lang="de-DE" sz="1600" spc="-1" strike="noStrike">
                <a:solidFill>
                  <a:srgbClr val="ff0000"/>
                </a:solidFill>
                <a:latin typeface="Arial"/>
                <a:ea typeface="Arial"/>
              </a:rPr>
              <a:t>im Bet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feld 34"/>
          <p:cNvSpPr/>
          <p:nvPr/>
        </p:nvSpPr>
        <p:spPr>
          <a:xfrm>
            <a:off x="3721320" y="535788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lokal (Dativ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feld 35"/>
          <p:cNvSpPr/>
          <p:nvPr/>
        </p:nvSpPr>
        <p:spPr>
          <a:xfrm>
            <a:off x="301320" y="5715000"/>
            <a:ext cx="269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Wir beginnen </a:t>
            </a: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i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1600" spc="-1" strike="noStrike">
                <a:solidFill>
                  <a:srgbClr val="ff0000"/>
                </a:solidFill>
                <a:latin typeface="Arial"/>
                <a:ea typeface="Arial"/>
              </a:rPr>
              <a:t>der Party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feld 36"/>
          <p:cNvSpPr/>
          <p:nvPr/>
        </p:nvSpPr>
        <p:spPr>
          <a:xfrm>
            <a:off x="3725640" y="5715000"/>
            <a:ext cx="218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präpositional mit </a:t>
            </a: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iv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feld 37"/>
          <p:cNvSpPr/>
          <p:nvPr/>
        </p:nvSpPr>
        <p:spPr>
          <a:xfrm>
            <a:off x="297720" y="607212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ch denke </a:t>
            </a: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1600" spc="-1" strike="noStrike">
                <a:solidFill>
                  <a:srgbClr val="ff0000"/>
                </a:solidFill>
                <a:latin typeface="Arial"/>
                <a:ea typeface="Arial"/>
              </a:rPr>
              <a:t>dic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feld 38"/>
          <p:cNvSpPr/>
          <p:nvPr/>
        </p:nvSpPr>
        <p:spPr>
          <a:xfrm>
            <a:off x="3720600" y="6072120"/>
            <a:ext cx="258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präpositional mit </a:t>
            </a: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kkusativ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feld 1"/>
          <p:cNvSpPr/>
          <p:nvPr/>
        </p:nvSpPr>
        <p:spPr>
          <a:xfrm>
            <a:off x="2855520" y="357120"/>
            <a:ext cx="343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  <a:ea typeface="Arial"/>
              </a:rPr>
              <a:t>Leicht gemerk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feld 2"/>
          <p:cNvSpPr/>
          <p:nvPr/>
        </p:nvSpPr>
        <p:spPr>
          <a:xfrm>
            <a:off x="285840" y="1357200"/>
            <a:ext cx="8501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ie Satzglieder können mi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W-Frag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(Ergänzungsfragen) herausgefunden werden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Wer?, Wie?, Was?, Wo?, Wann?, Warum?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einige Richtlinien für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eihenfolg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der Satzgliede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feld 4"/>
          <p:cNvSpPr/>
          <p:nvPr/>
        </p:nvSpPr>
        <p:spPr>
          <a:xfrm>
            <a:off x="289080" y="5357880"/>
            <a:ext cx="59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ch fuhr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gester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wegen Kopfschmerz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it dem Bu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zum Arz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feld 5"/>
          <p:cNvSpPr/>
          <p:nvPr/>
        </p:nvSpPr>
        <p:spPr>
          <a:xfrm>
            <a:off x="321120" y="5715000"/>
            <a:ext cx="575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TEmpora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KAusal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da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LOk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feld 7"/>
          <p:cNvSpPr/>
          <p:nvPr/>
        </p:nvSpPr>
        <p:spPr>
          <a:xfrm>
            <a:off x="284400" y="4572000"/>
            <a:ext cx="512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„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TeKaMoLo“: Reihenfolge nach dem Verb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temporal – kausal – modal – lok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feld 8"/>
          <p:cNvSpPr/>
          <p:nvPr/>
        </p:nvSpPr>
        <p:spPr>
          <a:xfrm>
            <a:off x="319680" y="2857680"/>
            <a:ext cx="524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er Bäcker verkaufte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h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fünf Brezeln </a:t>
            </a: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ür nur zwei Euro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feld 9"/>
          <p:cNvSpPr/>
          <p:nvPr/>
        </p:nvSpPr>
        <p:spPr>
          <a:xfrm>
            <a:off x="6008400" y="2857680"/>
            <a:ext cx="13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kurz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or </a:t>
            </a: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a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feld 14"/>
          <p:cNvSpPr/>
          <p:nvPr/>
        </p:nvSpPr>
        <p:spPr>
          <a:xfrm>
            <a:off x="303480" y="3357720"/>
            <a:ext cx="335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Er packt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ie Brezel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 eine Tüt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feld 15"/>
          <p:cNvSpPr/>
          <p:nvPr/>
        </p:nvSpPr>
        <p:spPr>
          <a:xfrm>
            <a:off x="6014880" y="3357720"/>
            <a:ext cx="229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kan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or </a:t>
            </a: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bekan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feld 16"/>
          <p:cNvSpPr/>
          <p:nvPr/>
        </p:nvSpPr>
        <p:spPr>
          <a:xfrm>
            <a:off x="308160" y="3857760"/>
            <a:ext cx="408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ann hiel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er Bäck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er Frau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e Tü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auf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feld 17"/>
          <p:cNvSpPr/>
          <p:nvPr/>
        </p:nvSpPr>
        <p:spPr>
          <a:xfrm>
            <a:off x="6013800" y="3857760"/>
            <a:ext cx="231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zuerst immer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Nominativ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feld 1"/>
          <p:cNvSpPr/>
          <p:nvPr/>
        </p:nvSpPr>
        <p:spPr>
          <a:xfrm>
            <a:off x="2666520" y="357120"/>
            <a:ext cx="381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  <a:ea typeface="Arial"/>
              </a:rPr>
              <a:t>Die Wortstellu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feld 2"/>
          <p:cNvSpPr/>
          <p:nvPr/>
        </p:nvSpPr>
        <p:spPr>
          <a:xfrm>
            <a:off x="285840" y="1357200"/>
            <a:ext cx="8501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auptsatz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Subjek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Ver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bjek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Si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kauf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ein Bu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ein Brud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schreib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einen Brie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u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komms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us Berli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feld 6"/>
          <p:cNvSpPr/>
          <p:nvPr/>
        </p:nvSpPr>
        <p:spPr>
          <a:xfrm>
            <a:off x="327600" y="3357720"/>
            <a:ext cx="8783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auptsatz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1.Satzanfa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2.Ver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3.Satzmit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4.Satzen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(Position 1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(Position 2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(Subjekt, Adverbien, Objek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c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ern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m Abend manchmal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euts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m Aben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ern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ch manchmal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euts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anchmal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ern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ch am Aben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euts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feld 1"/>
          <p:cNvSpPr/>
          <p:nvPr/>
        </p:nvSpPr>
        <p:spPr>
          <a:xfrm>
            <a:off x="2666520" y="357120"/>
            <a:ext cx="381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  <a:ea typeface="Arial"/>
              </a:rPr>
              <a:t>Die Wortstellu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feld 4"/>
          <p:cNvSpPr/>
          <p:nvPr/>
        </p:nvSpPr>
        <p:spPr>
          <a:xfrm>
            <a:off x="309240" y="1071720"/>
            <a:ext cx="6954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ie Position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  <a:ea typeface="Arial"/>
              </a:rPr>
              <a:t>einzelner Verb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m Hauptsatz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1.Satzanfa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2.Ver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3.Satzmit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4.Satzen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(Position 1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(Subjekt, Adverb, Objek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c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  <a:ea typeface="Arial"/>
              </a:rPr>
              <a:t>lern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m Abend manchmal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euts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m Aben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  <a:ea typeface="Arial"/>
              </a:rPr>
              <a:t>lern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ch manchmal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euts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anchmal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  <a:ea typeface="Arial"/>
              </a:rPr>
              <a:t>lern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ch am Aben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euts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feld 5"/>
          <p:cNvSpPr/>
          <p:nvPr/>
        </p:nvSpPr>
        <p:spPr>
          <a:xfrm>
            <a:off x="327960" y="3929040"/>
            <a:ext cx="8826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ie Position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  <a:ea typeface="Arial"/>
              </a:rPr>
              <a:t>zusammengesetzter Verb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im Hauptsatz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1.Satzanfa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  <a:ea typeface="Arial"/>
              </a:rPr>
              <a:t>2.Ver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3.Satzmit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  <a:ea typeface="Arial"/>
              </a:rPr>
              <a:t>4.Satzen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(Position 1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(Subjekt, Adverb, Objek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c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  <a:ea typeface="Arial"/>
              </a:rPr>
              <a:t>mus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m Abend manchmal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eutsc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  <a:ea typeface="Arial"/>
              </a:rPr>
              <a:t>lern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m Aben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  <a:ea typeface="Arial"/>
              </a:rPr>
              <a:t>mus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ch manchmal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eutsc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  <a:ea typeface="Arial"/>
              </a:rPr>
              <a:t>lern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anchmal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  <a:ea typeface="Arial"/>
              </a:rPr>
              <a:t>mus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ch am Aben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eutsc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  <a:ea typeface="Arial"/>
              </a:rPr>
              <a:t>lern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feld 1"/>
          <p:cNvSpPr/>
          <p:nvPr/>
        </p:nvSpPr>
        <p:spPr>
          <a:xfrm>
            <a:off x="2666520" y="357120"/>
            <a:ext cx="381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  <a:ea typeface="Arial"/>
              </a:rPr>
              <a:t>Die Wortstellu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feld 3"/>
          <p:cNvSpPr/>
          <p:nvPr/>
        </p:nvSpPr>
        <p:spPr>
          <a:xfrm>
            <a:off x="316800" y="1133640"/>
            <a:ext cx="8728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auptsatz + Hauptsatz wird verbunden mi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nd, oder, aber, sondern, den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u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  <a:ea typeface="Arial"/>
              </a:rPr>
              <a:t>lerns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immer sehr viel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n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ch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  <a:ea typeface="Arial"/>
              </a:rPr>
              <a:t>bi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auch sehr fleißi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Oft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  <a:ea typeface="Arial"/>
              </a:rPr>
              <a:t>lern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ich abends,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b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ch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  <a:ea typeface="Arial"/>
              </a:rPr>
              <a:t>lern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eigentlich lieber morge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Er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  <a:ea typeface="Arial"/>
              </a:rPr>
              <a:t>ler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in der Nacht,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en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m Tag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  <a:ea typeface="Arial"/>
              </a:rPr>
              <a:t>ha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er keine Zei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feld 5"/>
          <p:cNvSpPr/>
          <p:nvPr/>
        </p:nvSpPr>
        <p:spPr>
          <a:xfrm>
            <a:off x="321120" y="3562200"/>
            <a:ext cx="8277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Nebensatz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steht das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  <a:ea typeface="Arial"/>
              </a:rPr>
              <a:t>Verb am End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ch lerne am Abend,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weil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ch am Tag keine Zei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  <a:ea typeface="Arial"/>
              </a:rPr>
              <a:t>hab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ch frage sie,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o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sie morgen zu mi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  <a:ea typeface="Arial"/>
              </a:rPr>
              <a:t>kommen will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Er glaubt,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as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er da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  <a:ea typeface="Arial"/>
              </a:rPr>
              <a:t>machen kan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Wir wissen nicht,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waru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er da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  <a:ea typeface="Arial"/>
              </a:rPr>
              <a:t>getan ha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feld 8"/>
          <p:cNvSpPr/>
          <p:nvPr/>
        </p:nvSpPr>
        <p:spPr>
          <a:xfrm>
            <a:off x="2666520" y="357120"/>
            <a:ext cx="381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  <a:ea typeface="Arial"/>
              </a:rPr>
              <a:t>Die Wortstellu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feld 10"/>
          <p:cNvSpPr/>
          <p:nvPr/>
        </p:nvSpPr>
        <p:spPr>
          <a:xfrm>
            <a:off x="299160" y="1214280"/>
            <a:ext cx="7785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Wörter, die einen Nebensatz beginne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weil, obwohl, dass, ob, als, wenn, während, damit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lle Fragewörter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wer, was, wann, wo, wohin, woher, warum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elativpronomen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er, die, das, dem, de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feld 11"/>
          <p:cNvSpPr/>
          <p:nvPr/>
        </p:nvSpPr>
        <p:spPr>
          <a:xfrm>
            <a:off x="297360" y="3214800"/>
            <a:ext cx="82047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ronom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für die Relativsätz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Singula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lu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Nominati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i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a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niti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ess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er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ess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er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ati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e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e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e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kkusati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i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a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feld 1"/>
          <p:cNvSpPr/>
          <p:nvPr/>
        </p:nvSpPr>
        <p:spPr>
          <a:xfrm>
            <a:off x="2235240" y="357120"/>
            <a:ext cx="467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  <a:ea typeface="Arial"/>
              </a:rPr>
              <a:t>Wann – Wenn – Al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feld 3"/>
          <p:cNvSpPr/>
          <p:nvPr/>
        </p:nvSpPr>
        <p:spPr>
          <a:xfrm>
            <a:off x="318960" y="1214280"/>
            <a:ext cx="827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Wen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i Bedingung, Wiederholung, kein bestimmter Mo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ls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Zeitangabe, Vergangenheit, spezieller Mo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Textfeld 4" descr=""/>
          <p:cNvPicPr/>
          <p:nvPr/>
        </p:nvPicPr>
        <p:blipFill>
          <a:blip r:embed="rId1"/>
          <a:stretch/>
        </p:blipFill>
        <p:spPr>
          <a:xfrm>
            <a:off x="231840" y="3187800"/>
            <a:ext cx="822960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0:35:11Z</dcterms:created>
  <dc:creator> </dc:creator>
  <dc:description/>
  <dc:language>en-US</dc:language>
  <cp:lastModifiedBy> </cp:lastModifiedBy>
  <dcterms:modified xsi:type="dcterms:W3CDTF">2009-02-26T18:30:47Z</dcterms:modified>
  <cp:revision>1</cp:revision>
  <dc:subject/>
  <dc:title>Folie 1</dc:title>
</cp:coreProperties>
</file>